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BEDC-041E-484E-8CC9-86C2E7C4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C67-1AE3-4FFD-9B24-346DD76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C64-FBA9-4526-8E77-0A886FE8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D35E-0F89-4A8C-BD30-47615DC1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472B-2256-4332-822D-449A8BCB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A9C3-F906-4E20-BB78-B6700076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177F-C653-4B49-8019-88185A1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AA4A-0F3A-4CD7-8FE2-735CCAA9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A17-A1B5-4118-BBD2-DBCA69BF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9F3E-59E0-4FFC-B15C-A9867A7C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DAC7-DBE2-424C-8FAC-ACDA62CF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154-94BD-4706-9C5A-2DC8D804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576D-4276-454C-BEE6-D3CE9D53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80A1-80DE-4D15-8932-D9D3011E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66E-1019-4110-9150-AE6C856A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8746-3922-458C-81FC-0574484A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7D0A-A1AE-450F-B5FB-D2EF05FFF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6B09-6201-4F74-B5BF-56FEE4E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9D1B-7C85-4526-B2B5-21441237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A06-200A-4759-961F-FD36849F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8FC-369B-4DA2-A4D6-373C09EE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FA6-42E7-4EA4-B5BF-60B62E28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81E-AAD2-4FB8-A45C-6647B2C5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8A4F-EC3D-46AD-928E-04A7D793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BB1-81C0-4698-A058-12398414F1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9437-D27C-428E-916A-1BA34A1A8AC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gion and the Public Schoo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you’ve been, where you’re go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Amendment rights: evol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s you make affect out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ourt Ca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hey affect the future of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Polit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politics affect the futu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urrent Ev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s in the world affects how we study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religious literacy help students better understand world ev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bbyist and Special Interest group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in textbook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ta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chool Policies &amp; Educational Philosoph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school policies affect teaching and dealing with religion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educational philosophies address in regards to relig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educational philosophy about religion and issues with it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stay informed on issu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address issues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2:13:12Z</dcterms:created>
  <dc:creator>Vanessa Jakse</dc:creator>
  <dc:description/>
  <dc:language>en-US</dc:language>
  <cp:lastModifiedBy>Vanessa Jakse</cp:lastModifiedBy>
  <dcterms:modified xsi:type="dcterms:W3CDTF">2009-07-18T00:09:56Z</dcterms:modified>
  <cp:revision>2</cp:revision>
  <dc:subject/>
  <dc:title>Religion and the Public Schools</dc:title>
</cp:coreProperties>
</file>